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F78-D8FC-421C-B835-3F7D3247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18D-F96F-416F-87AA-F8021524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5C9-4D64-4F0C-9162-917A0EE0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197-C86C-4B60-A942-A96D6D60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46023-DC79-4328-A02F-7D6BA5F5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6F1FB-6386-49BD-8629-1B213175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DEB0A-45E5-4192-AA86-7CFF784F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6C090-0EF4-4640-8C8E-AFE56BC8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4522D-19E9-4573-BD5F-5CA4E446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9F460-9CE2-4A4A-B484-B2D1A869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3EFF1-9CCE-4FCA-9741-CBF0822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262-FC90-4A4B-892A-6C99DC92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EF8C1-7621-4DC5-84A0-0F77F607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B5AFC-6559-4B37-9A64-76F0698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711C-BE8F-45E0-B79F-3B072044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5D4D3-AD8C-473D-BD65-B822D3DC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66926-1502-4971-9B7D-76D25F08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0EA-BEC8-42AD-AA5F-0C403AFF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267-77D8-49E0-83FC-FABB5AF4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C10-E1D5-4B08-B0F1-428B0ED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221-7202-4E5C-BFB9-C921E840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177-6D92-4305-AA2A-24ABDBF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856-AABF-4C0B-8787-5D63F917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00F-0827-4D75-92BD-9B976AC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3DFB-7E6F-4368-A6BC-26FC0E2B959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25D2-8EE7-430C-8AC3-0DA5DC02740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8584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n Jan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a-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s sind Indikatore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kator leitet sich von indicare (=anzeigen) 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der Chemie: = Stoff oder Gerät zur Überwachung von chemischer Reaktion oder Zust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äure/Base 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m allg. organische Säuren mit verschiedener Farbe zur korrespondierenden 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Bsp: Bei Methylorange Säure rot &amp; korr. Base ge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mschlagsbereiche von Säure/Ba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Indikator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e Farbe eines Indikators ergibt sich aus dem Gleichgewicht von Säure &amp; kor. Bas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rbwechsel ist erst bei zehnfachem Überschuss der Säure bzw. der Kor. Base vollständig sichtba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dikatoren können einen oder zwei Umschlagsbereiche besitz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71560" y="4716360"/>
            <a:ext cx="73724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00720" y="3500280"/>
            <a:ext cx="2843280" cy="3357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as ph-Me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nelle und genaue Bestimmung von pH-Wer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zeugt durch Elektrode eine Spannung, welche vom pH-Wert abhäng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versal- &amp; Spezial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Universalindikator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Gemisch von Indikatoren mit versch. Umschlagsbereichen (Bsp.Indikatorpap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pH - Bereich 1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Spezialindikator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Kleinere pH-Bereiche bis zu 0,2 pH-Einhe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rsu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Materialien: 2 Bechergläser; Schwarzer Tee; Rotkohlsaft; Zitronensaft; Spülmitt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Versuchaufbau: Je ein Becherglas mit Tee und Rotkohlsaft fül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Versuch:1 Spritzer Zitronensaft in den Tee geb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Spritzer Spülmittel in den Rotkohlsaft geb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Ergebnis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6:25:10Z</dcterms:created>
  <dc:creator>Lena</dc:creator>
  <dc:description/>
  <dc:language>en-US</dc:language>
  <cp:lastModifiedBy>Lena</cp:lastModifiedBy>
  <dcterms:modified xsi:type="dcterms:W3CDTF">2005-12-13T18:17:14Z</dcterms:modified>
  <cp:revision>5</cp:revision>
  <dc:subject/>
  <dc:title>Indikatoren</dc:title>
</cp:coreProperties>
</file>